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80A-A8A0-40D8-A234-78B66CE1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EB3-0B23-461B-9DD2-0E6C6B06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F08-205C-4F6E-9643-9114972A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7F0-41A6-49A7-AF8C-A26BA104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62C-0097-4344-88BD-E5693EB5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59F-38C2-4F0F-BB74-476A5E93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FDE-62CB-4CAF-82C3-5E351B88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031-D15B-4439-B4B7-3D857469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EFD-AA6D-474A-B5DC-946A541E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C33-3A70-491C-9EDF-6921DA5B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2ED-E1A8-44E2-8B3A-F60A135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53D-65E5-4744-8C03-E8621C72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1684-614E-4550-BDFC-4B42EA7E9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128811tjyYwEGwHP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762120"/>
            <a:ext cx="312408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 منصلّي بحرارة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تتركنا يا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طينا نعمة وطها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تى ما نخطى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نجوع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-masslg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4120" y="1523880"/>
            <a:ext cx="35812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ولّع هالأرض بنا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طهّرنا من أهل الش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وناولنا من أسرا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حتى المحبّة تكبر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4TT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1523880"/>
            <a:ext cx="388620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بّل منا هالبخور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بارك كل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شترك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ولا المحبّة والنو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نا بقينا مخطيين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3-02-05T12:52:14Z</dcterms:modified>
  <cp:revision>4</cp:revision>
  <dc:subject/>
  <dc:title>PowerPoint Presentation</dc:title>
</cp:coreProperties>
</file>